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C7AF-1AB1-4F8F-B4B9-5FEAFEC25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2D87-B372-4EF3-89F2-7C839D1E8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4477-CC8E-47AB-AB09-280A4FC3C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327B-0BB0-47FE-87A9-77DCB47C0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C650-BED7-4F60-976E-6D9A4553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C8F9-2F6D-467A-90B9-7892BC38E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0F10-BA7E-4905-A8D2-E9052BC47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F5FF-734A-4DF4-9651-01DFF6CC0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FC54-46AD-4D1B-BD5C-374AA4F6D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F18F-12E7-430D-84A4-7D91C762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61FD-9DA7-4932-95D7-D2AB7F82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7BC4-E643-4D83-BEFF-0E88C818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8BD00-9569-42C7-BAFA-8BF88FAEFB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Times New Roman"/>
              </a:rPr>
              <a:t>Figury przestrzen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ześcian, prostopadłościan, graniastosłup i ostrosł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cc00"/>
                </a:solidFill>
                <a:latin typeface="Times New Roman"/>
              </a:rPr>
              <a:t>Ostrosł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3429000"/>
            <a:ext cx="106668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657600" y="1981080"/>
            <a:ext cx="1066680" cy="14479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657600" y="4342680"/>
            <a:ext cx="1066680" cy="15238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724280" y="3429000"/>
            <a:ext cx="1600200" cy="45720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724280" y="3886200"/>
            <a:ext cx="1600200" cy="45720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133000" y="3429000"/>
            <a:ext cx="1523880" cy="45720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2133000" y="3886200"/>
            <a:ext cx="1523880" cy="45720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2286000"/>
            <a:ext cx="2590920" cy="45720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2895480"/>
            <a:ext cx="3048120" cy="5335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3505320"/>
            <a:ext cx="2590920" cy="22860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KONIEC PREZENTACJ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Prostopadłośc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a50021"/>
                </a:solidFill>
                <a:latin typeface="Times New Roman"/>
              </a:rPr>
              <a:t>Wzór na pole całkowite prostopadłościanu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a50021"/>
                </a:solidFill>
                <a:latin typeface="Times New Roman"/>
              </a:rPr>
              <a:t>Pc=(P1+P2+P3)*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a50021"/>
                </a:solidFill>
                <a:latin typeface="Times New Roman"/>
              </a:rPr>
              <a:t>Wzór na objętość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a50021"/>
                </a:solidFill>
                <a:latin typeface="Times New Roman"/>
              </a:rPr>
              <a:t>v=a*b*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a50021"/>
                </a:solidFill>
                <a:latin typeface="Times New Roman"/>
              </a:rPr>
              <a:t>Prostopadłościan m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a50021"/>
                </a:solidFill>
                <a:latin typeface="Times New Roman"/>
              </a:rPr>
              <a:t>6 ścian, 8 wierzcholków i 12 krawędz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ści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erzchoł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rawęd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43400" y="3886200"/>
            <a:ext cx="3352680" cy="198108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438280"/>
            <a:ext cx="15264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486400" y="2971800"/>
            <a:ext cx="167652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467480" y="2666880"/>
            <a:ext cx="2286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Times New Roman"/>
              </a:rPr>
              <a:t>Sześc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8000"/>
                </a:solidFill>
                <a:latin typeface="Times New Roman"/>
              </a:rPr>
              <a:t>Wzór na pole całkowi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8000"/>
                </a:solidFill>
                <a:latin typeface="Times New Roman"/>
              </a:rPr>
              <a:t>Pc=(a*a)*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8000"/>
                </a:solidFill>
                <a:latin typeface="Times New Roman"/>
              </a:rPr>
              <a:t>Wzór na objętość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8000"/>
                </a:solidFill>
                <a:latin typeface="Times New Roman"/>
              </a:rPr>
              <a:t>v=a*a*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8000"/>
                </a:solidFill>
                <a:latin typeface="Times New Roman"/>
              </a:rPr>
              <a:t>Sześcian 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8000"/>
                </a:solidFill>
                <a:latin typeface="Times New Roman"/>
              </a:rPr>
              <a:t>6 ścian, 8 wierzchołków i 12 krawędz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ściana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erzchoł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rawęd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3429000"/>
            <a:ext cx="2362320" cy="220968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86400" y="23623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553080" y="32767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6705720" y="266688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ff"/>
                </a:solidFill>
                <a:latin typeface="Times New Roman"/>
              </a:rPr>
              <a:t>Graniastosł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99ff"/>
                </a:solidFill>
                <a:latin typeface="Times New Roman"/>
              </a:rPr>
              <a:t>Wzór na pole całkowite graniastosłup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99ff"/>
                </a:solidFill>
                <a:latin typeface="Times New Roman"/>
              </a:rPr>
              <a:t>Pc=Pp*2+P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99ff"/>
                </a:solidFill>
                <a:latin typeface="Times New Roman"/>
              </a:rPr>
              <a:t>Wzór na objętość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99ff"/>
                </a:solidFill>
                <a:latin typeface="Times New Roman"/>
              </a:rPr>
              <a:t>v=Pp*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99ff"/>
                </a:solidFill>
                <a:latin typeface="Times New Roman"/>
              </a:rPr>
              <a:t>Graniastosłup musi mieć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99ff"/>
                </a:solidFill>
                <a:latin typeface="Times New Roman"/>
              </a:rPr>
              <a:t>2 podstawy i ściany bocz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Times New Roman"/>
              </a:rPr>
              <a:t>Wysokość graniastosłupa oznacza mała litera „h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Times New Roman"/>
              </a:rPr>
              <a:t>Gdy podstawą graniastosłupa jest trójkąt, graniastosłup nazywamy trójkątnym, gdy czworokąt- czworokątnym it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Times New Roman"/>
              </a:rPr>
              <a:t>Ściany graniastosłupa zawsze są prostokątam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990099"/>
                </a:solidFill>
                <a:latin typeface="Times New Roman"/>
              </a:rPr>
              <a:t>Ostrosł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800080"/>
                </a:solidFill>
                <a:latin typeface="Times New Roman"/>
              </a:rPr>
              <a:t>Pole całkow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800080"/>
                </a:solidFill>
                <a:latin typeface="Times New Roman"/>
              </a:rPr>
              <a:t>Pc=Pp + P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800080"/>
                </a:solidFill>
                <a:latin typeface="Times New Roman"/>
              </a:rPr>
              <a:t>Objętoś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800080"/>
                </a:solidFill>
                <a:latin typeface="Times New Roman"/>
              </a:rPr>
              <a:t>V=Pp : 3 * 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800080"/>
                </a:solidFill>
                <a:latin typeface="Times New Roman"/>
              </a:rPr>
              <a:t>W każdym ostrosłupie można wskazać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800080"/>
                </a:solidFill>
                <a:latin typeface="Times New Roman"/>
              </a:rPr>
              <a:t>- podstawę która jest wieloką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800080"/>
                </a:solidFill>
                <a:latin typeface="Times New Roman"/>
              </a:rPr>
              <a:t>- ściany boczne, które są trójkątami o wspólnym wierzchołk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800080"/>
                </a:solidFill>
                <a:latin typeface="Times New Roman"/>
              </a:rPr>
              <a:t>Ostrosłup, którego ściany są jednakowymi trójkątami równobocznymi nazywamy </a:t>
            </a:r>
            <a:r>
              <a:rPr b="1" lang="pl-PL" sz="1800" spc="-1" strike="noStrike">
                <a:solidFill>
                  <a:srgbClr val="800080"/>
                </a:solidFill>
                <a:latin typeface="Times New Roman"/>
              </a:rPr>
              <a:t>czworościanem foremny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wierzchołek ostrosłu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0" lang="en-US" sz="1200" spc="-1" strike="noStrike">
                <a:solidFill>
                  <a:srgbClr val="ff9900"/>
                </a:solidFill>
                <a:latin typeface="Times New Roman"/>
              </a:rPr>
              <a:t>krawędzie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 bocz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ściana bocz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cc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Times New Roman"/>
              </a:rPr>
              <a:t>wierzchołe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ccff99"/>
                </a:solidFill>
                <a:latin typeface="Times New Roman"/>
              </a:rPr>
              <a:t>podstaw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</a:t>
            </a:r>
            <a:r>
              <a:rPr b="0" lang="en-US" sz="1200" spc="-1" strike="noStrike">
                <a:solidFill>
                  <a:srgbClr val="660066"/>
                </a:solidFill>
                <a:latin typeface="Times New Roman"/>
              </a:rPr>
              <a:t>podstaw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krawęd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podstaw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91320" y="4343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715000" y="4114440"/>
            <a:ext cx="685800" cy="685800"/>
          </a:xfrm>
          <a:prstGeom prst="line">
            <a:avLst/>
          </a:prstGeom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00800" y="4114800"/>
            <a:ext cx="685800" cy="6858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15000" y="4800600"/>
            <a:ext cx="13716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6400800" y="3428640"/>
            <a:ext cx="0" cy="685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5715000" y="3429000"/>
            <a:ext cx="685800" cy="1371600"/>
          </a:xfrm>
          <a:prstGeom prst="line">
            <a:avLst/>
          </a:prstGeom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6400440" y="3429000"/>
            <a:ext cx="685800" cy="13716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400800" y="3124080"/>
            <a:ext cx="457200" cy="3049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705720" y="4191120"/>
            <a:ext cx="761760" cy="45720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6705720" y="3352680"/>
            <a:ext cx="761760" cy="6858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6400440" y="3352680"/>
            <a:ext cx="1066680" cy="4572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10080" y="4648320"/>
            <a:ext cx="685800" cy="152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715000" y="3886200"/>
            <a:ext cx="685800" cy="228600"/>
          </a:xfrm>
          <a:prstGeom prst="line">
            <a:avLst/>
          </a:prstGeom>
          <a:ln w="9360">
            <a:solidFill>
              <a:srgbClr val="cc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3600" y="3505320"/>
            <a:ext cx="380880" cy="380880"/>
          </a:xfrm>
          <a:prstGeom prst="line">
            <a:avLst/>
          </a:prstGeom>
          <a:ln w="9360">
            <a:solidFill>
              <a:srgbClr val="ff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990099"/>
                </a:solidFill>
                <a:latin typeface="Times New Roman"/>
              </a:rPr>
              <a:t>Siatk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Times New Roman"/>
              </a:rPr>
              <a:t>Prostopadłościanu, sześcianu, graniastosłupa, ostrosłup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429000" y="4267080"/>
            <a:ext cx="137160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8080"/>
                </a:solidFill>
                <a:latin typeface="Times New Roman"/>
              </a:rPr>
              <a:t>Prostopadłośc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8080"/>
                </a:solidFill>
                <a:latin typeface="Times New Roman"/>
              </a:rPr>
              <a:t>b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800" spc="-1" strike="noStrike">
                <a:solidFill>
                  <a:srgbClr val="00808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76520" y="3505320"/>
            <a:ext cx="1371600" cy="1218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72200" y="3505320"/>
            <a:ext cx="1752480" cy="1218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00600" y="3505320"/>
            <a:ext cx="1371600" cy="1218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8120" y="3505320"/>
            <a:ext cx="1752480" cy="1218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8120" y="4724280"/>
            <a:ext cx="175248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286000"/>
            <a:ext cx="175248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4038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438280" y="48002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295280" y="4952880"/>
            <a:ext cx="11430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95280" y="380988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733920" y="601956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9966"/>
                </a:solidFill>
                <a:latin typeface="Times New Roman"/>
              </a:rPr>
              <a:t>Sześc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33720" y="3505320"/>
            <a:ext cx="1066680" cy="99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00400" y="3505320"/>
            <a:ext cx="1066680" cy="99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00400" y="4495680"/>
            <a:ext cx="1066680" cy="990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00400" y="2514600"/>
            <a:ext cx="1066680" cy="990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4120" y="3505320"/>
            <a:ext cx="1066680" cy="99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67080" y="3505320"/>
            <a:ext cx="1067040" cy="99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3505320"/>
            <a:ext cx="762120" cy="53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1295280" y="2971800"/>
            <a:ext cx="182880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3657600"/>
            <a:ext cx="1066680" cy="1523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286000" y="4571640"/>
            <a:ext cx="30492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100000">
              <a:srgbClr val="ff7c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Graniastosł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2209680"/>
            <a:ext cx="2209680" cy="99072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19320" y="3200400"/>
            <a:ext cx="2209680" cy="99072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29000" y="3200400"/>
            <a:ext cx="1143000" cy="99072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3200400"/>
            <a:ext cx="2209680" cy="99072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4191120"/>
            <a:ext cx="2209680" cy="99036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81680" y="4191120"/>
            <a:ext cx="1143000" cy="99036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143000" y="4267080"/>
            <a:ext cx="1143000" cy="45720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143000" y="4267080"/>
            <a:ext cx="2895480" cy="91440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143000" y="4648320"/>
            <a:ext cx="3352680" cy="121896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4:24:24Z</dcterms:created>
  <dc:creator>abc</dc:creator>
  <dc:description/>
  <dc:language>en-US</dc:language>
  <cp:lastModifiedBy>abc</cp:lastModifiedBy>
  <dcterms:modified xsi:type="dcterms:W3CDTF">2010-04-19T19:37:13Z</dcterms:modified>
  <cp:revision>5</cp:revision>
  <dc:subject/>
  <dc:title>Figury przestrzenne</dc:title>
</cp:coreProperties>
</file>